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7E0-93A6-45CD-AE5F-2E2A5B91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D9F-079A-4AFF-B2D8-A67CB73C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9AB2-74D8-4D96-83DC-B80C1F57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76B-9371-49A7-BFC1-5B19966D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94E-89D2-4BE4-BACA-75C82B82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C0A-1C9F-4194-BB8A-4F9174EF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A1E-A2EA-4F18-BC21-9C00F89F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64A4-1765-4B56-995D-C2D6B58E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7C0-2ADB-4DE0-A02B-72C21987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CD2-462F-4B39-980E-9114E975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C430-6199-44AC-831C-A0729EFD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B17-0CDE-4489-B7F3-4D8F25E4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61C0-C349-4F35-8E1D-6EA9F4039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752480" y="15238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0" y="152388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Light of the world You stepped out into darkn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Opened my eyes let me se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Beauty that made this heart adore Yo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ope of a life spent with Yo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bow dow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say that You’re my Go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Your altogether Love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rth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nderful to 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0" y="152388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King of all days, O so highly exal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Glorious in heaven abo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umbly You came to the earth You crea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l for loves sake became po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bow dow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say that You’re my Go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Your altogether Love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rth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nderful to 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0" y="1523880"/>
            <a:ext cx="9144000" cy="73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nd I’ll never know how much it c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nd I’ll never know how much it c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nd I’ll never know how much it c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nd I’ll never know how much it c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bow dow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say that You’re my Go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Your altogether Love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rth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nderful to 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bow dow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say that You’re my Go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Your altogether Love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rth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nderful to 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23:26:42Z</dcterms:created>
  <dc:creator>Jim Graham</dc:creator>
  <dc:description/>
  <dc:language>en-US</dc:language>
  <cp:lastModifiedBy>Jim Graham</cp:lastModifiedBy>
  <dcterms:modified xsi:type="dcterms:W3CDTF">2007-08-25T23:30:13Z</dcterms:modified>
  <cp:revision>1</cp:revision>
  <dc:subject/>
  <dc:title>Slide 1</dc:title>
</cp:coreProperties>
</file>